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E0D4-B9E2-4D24-8C9E-C86B10D5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ECC8-04B7-4EDB-A237-C363F780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BFCA-BE2C-414A-A801-7198D1E7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910B-EE99-4253-9585-ABDE8C7C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E7C7-280C-49C0-B091-699BF804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ABF9-E039-437C-BB16-09FDD170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CAC2-E0D2-4E93-A1CB-2CB51EDA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A85E-E462-480D-BDA5-63BB3056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99D8-39BE-4F49-B745-5BA43D02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C80E-B196-444F-ADD4-4DB32553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1BB8-A105-41C3-892D-4BD9FBC0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B717-C324-4F4F-9FF3-4A65B679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3F79-6BE8-4FD0-9101-5A0E7A51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B777-2637-4FD8-A9C1-6F8056B1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E588-AB50-4BBC-9F18-480935A6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0A7E-B3BA-45FD-A7A3-CC364ED4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9E71-8DD0-4101-B875-407042A3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631-F5DA-4CBC-8E87-E3874048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DEB-1CD0-49E7-A2F4-3576C83B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721-5A03-4C69-BFDA-264F018D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12BE-296C-4020-80B1-615DDA62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0F65-A099-4BD4-BCA6-6F2C6200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B7D-592C-4BCC-9653-6D83B514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E036-5544-43A6-9F9F-C6B6CCF8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5F54-9B47-432C-9C3A-18111596FC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FCED-DC73-4C7A-9C40-0F0E6029A0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Красная книга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Краснодарского края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Лещина древовидная</a:t>
            </a:r>
            <a:br>
              <a:rPr sz="44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емейство Берёзовы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Вид находится под угрозой исчезновения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ерево высотой 20 – 25 м с густой кроной. Листья округлые. Цветёт в марте - апреле. Плодоносит в сентябре - октябре. Плоды скучены, орех мелкий, сдавленный с боков, с очень толстой и твёрдой скорлупой. Размножается семенами. Имеет ценную розоватого оттенка древесину, используется в мебельном производстве и строительстве. Декоративное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В Краснодарском крае – в ущельях Сочинского района в среднем горном поясе, в Абадзехском лесничестве на высоте 800 м над уровнем моря растёт на крутых каменистых склонах, в расщелинах скал в смешанном лесу с буком, клёном, ясенем, грабом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стречается редко в малодоступных местах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храняется в коллекционных посадках ботанического сада Кубанского госуниверситета, в дендрарии Кубанского государственного аграрного университета,Северо – Кавказском НИИ садоводства и виноградарства, в центральном парке им. Горького г. Краснодара. Необходимо организовать заказники, сбор, посев семян и выращивание в лесных и декоративных питомниках Краснодарского края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лещина"/>
          <p:cNvPicPr/>
          <p:nvPr/>
        </p:nvPicPr>
        <p:blipFill>
          <a:blip r:embed="rId1"/>
          <a:srcRect l="4959" t="44257" r="3265" b="11727"/>
          <a:stretch/>
        </p:blipFill>
        <p:spPr>
          <a:xfrm>
            <a:off x="4788000" y="1916280"/>
            <a:ext cx="3816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Лапина крылоплодная</a:t>
            </a:r>
            <a:br>
              <a:rPr sz="44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емейство Ореховы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ид находится под угрозой исчезнов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топадное дерево высотой 40 м с вытянутой вверх кроной и стройным стволом 150 – 200 см в диаметре. Кора ветвей гладкая, светло- серая. Листья крупные,длиной до 50 см. Цветёт в апреле- мае. Плоды созревают в сентябре - октябре. Плоды собраны на длинной серёжке. Размножается семенами. Реликтовый вид. Декоративно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 Черноморскому побережью от нижнего течения р. Шахе. По берегам и долинам рек. Поднимается в горы до 750 м над уровнем моря, единичные деревья- до 1000- 1200 м над уровнем мор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ападной части образует чистые насаждения с ольхой, бородатой, клёном остролистным, грабом кавказски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бки, выпас скота,использование территорий под сельскохозяйственные культуры. Разводится в садах и парках. Необходимо организовать заказники, запретить вырубку. Выращивается в Северо- Кавказском НИИ садоводства и виноградарства в г. Краснода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лапина"/>
          <p:cNvPicPr/>
          <p:nvPr/>
        </p:nvPicPr>
        <p:blipFill>
          <a:blip r:embed="rId1"/>
          <a:srcRect l="1494" t="0" r="0" b="57527"/>
          <a:stretch/>
        </p:blipFill>
        <p:spPr>
          <a:xfrm>
            <a:off x="4788000" y="2276640"/>
            <a:ext cx="38862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амшит колхидский</a:t>
            </a:r>
            <a:br>
              <a:rPr sz="44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емейство Самшитовы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Вид находится под угрозой исчезнове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ечнозелёное дерево до 15-21 м или кустарник.Стволы старых деревьев достигают 50 – 70 см в диаметре и покрыты серовато- жёлтой корой.Крона многоветвистая. Цветки невзрачные, зеленоватые, в колосьях. Цветёт в марте- апреле. Плодоносит с августа. Плод- коробочка. Размножается семенами и черенками. Древесина светло- жёлтого цвета, твёрдая, хорошо обрабатывается , идёт на изготовление музыкальных инструментов, гравировальных досок. Декоративное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Небольшими группами. Наиболее крупные самшитники сохранились в районе Сочи (Хостинский район), на юго- восточном склоне г. Большой Ахун. Известны места произрастания в Апшеронском районе (Гуамское ущелье, по рекам Цице, Курджипс, Мезмай). Растёт по долинам рек, предпочитает тенистые ущелья. Поднимается до 1400 м над уровнем мор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Численность сокращаетс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Рубка деревьев с целью получения древисины для поделок, курортное и дорожное строительство , обрезка ветвей на букеты. Необходимо организовать заказники, размножать стеблевыми черенками и использовать в декоративном садоводств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лапина"/>
          <p:cNvPicPr/>
          <p:nvPr/>
        </p:nvPicPr>
        <p:blipFill>
          <a:blip r:embed="rId1"/>
          <a:srcRect l="4285" t="53014" r="8327" b="12001"/>
          <a:stretch/>
        </p:blipFill>
        <p:spPr>
          <a:xfrm>
            <a:off x="4859280" y="2492280"/>
            <a:ext cx="37465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Колокольчик Комарова 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емейство Колокольчиковы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дкий ви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вянистый многолетник высотой 15-20 см. Цветки фиолетово-синие, яркие. Цветёт в мае- июне. Плодоносит в августе- сентябре. Размножается семенами. Декоративно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Черноморское побережье Кавказа, между Новороссийском и Геленджиком, на Маркохотском хребте. Растёт на скалистых склонах в можжевеловом редколесь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енность сокращ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ор растений на букеты для продажи, строительство санаториев и дорог. Необходимо создать заказник на Маркохотском хребт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5" descr="колокольчик"/>
          <p:cNvPicPr/>
          <p:nvPr/>
        </p:nvPicPr>
        <p:blipFill>
          <a:blip r:embed="rId1"/>
          <a:srcRect l="3883" t="0" r="39227" b="24271"/>
          <a:stretch/>
        </p:blipFill>
        <p:spPr>
          <a:xfrm>
            <a:off x="5580000" y="1557360"/>
            <a:ext cx="2232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ff"/>
                </a:solidFill>
                <a:latin typeface="Comic Sans MS"/>
              </a:rPr>
              <a:t>Животные</a:t>
            </a:r>
            <a:endParaRPr b="0" lang="en-US" sz="8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ысь</a:t>
            </a:r>
            <a:br>
              <a:rPr sz="44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тряд Хищные  Семейство Кошачь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дкий ви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аснодарском крае обитает рысь кавказская – животное средних размеров с коротким туловищем и высокими ногами. Мех грубый, низкий, рыжего цвета с ярким рисунком из чёрных пятен и полосок. Обитатель глухих лесов, встречается на безлесых склонах среди скал до 2500 м над уровнем моря. Охотится в сумерках и ночью. Питается грызунами, зайцами, нападает на косу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стречается в горных районах,предпочитая лес с густым, труднопроходимым подлеском. Обитает на территории Северского, Абинского, Горячеключевского, Апшеронского, Туапсинского Мостовского, Лабинского, Отрадненского районов и в Кавказском государственном биосферном заповедн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еность продолжает сокращать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среды обитания и сокращение территорий, пригодных для жизни животных. Необходимы учёт численности, полный запрет на добычу рыси, более жесткий контроль п период массовой охоты на других животных, пропаганда охраны ви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рысь"/>
          <p:cNvPicPr/>
          <p:nvPr/>
        </p:nvPicPr>
        <p:blipFill>
          <a:blip r:embed="rId1"/>
          <a:srcRect l="11239" t="501" r="9624" b="64513"/>
          <a:stretch/>
        </p:blipFill>
        <p:spPr>
          <a:xfrm>
            <a:off x="4788000" y="2133720"/>
            <a:ext cx="39607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ереднеазиатский леопард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тряд Хищные  Семейство Кошачь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счезающий ви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ая кошка.Туловище сильно вытянутое, конечности низкие, Лицевой отдел головы сильно вытянутый.Уши невысокие, широко расставленные, округлые на вершинах. Волосяной покров низкий и мягкий. Основной цвет серовато – охристый (серовато – жёлтый). Пятна обычно буроватые, редкие. Летом мех светлее. Питается различными копытными и другими мелкими млекопитающими, птиц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бальпийском и альпийском поясах до 3500 м над уровнем моря могут попадаться особи из сопредельных рай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83 г. леопард отмечен на территории Головинского заказника и на хребте Аишх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зяйственное освоение горных районов, сокращение численности диких копытных животных – основного корма этого хищника, усиленное истребление всеми способами. Следует категорически запретить преследование и истребление, пропагандировать охра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рысь"/>
          <p:cNvPicPr/>
          <p:nvPr/>
        </p:nvPicPr>
        <p:blipFill>
          <a:blip r:embed="rId1"/>
          <a:srcRect l="5426" t="35493" r="6653" b="24271"/>
          <a:stretch/>
        </p:blipFill>
        <p:spPr>
          <a:xfrm>
            <a:off x="4788000" y="2133720"/>
            <a:ext cx="39607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озовый пеликан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тряд Веслоногие  Семейство Пеликановы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Вид находится под угрозой исчезнове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рупная птица с размахом крыла до 3 м и массой 8 – 11 кг. Оперение бледно - розовое. Маховые крылья чёрные с белыми стержнями. Вокруг глаз жёлтое кольцо. На голове хохолок из перьев. Все пальцы на коротких и сильных ногах жёлтого цвета соединены перепонками. Длина клюва до 60 см. Питается рыбой. Гнездится небольшими колониями в труднодоступных местах среди камыша. Гнездо сооружает из веток, сучьев, палок, травы и стеблей камыша. Откладывает яйца в мае. В кладке не более 3 белого цвета яиц с толстым известковым налётом. Насиживание 33 дня. Птенцы находятся с родителями 14 месяцев. Зимуют пеликаны в Индии, Иране, Египте, Турции, Болгарии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В Краснодарском крае – в дельте Кубани, в Ахтарско – Гривенской системе лимано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 1987 - 1988 гг. на о.Голеньком в колонии с кудрявым пеликаном, большим бакланом и другими птицами гнездилось 4 пары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своение р. Кубани под рисосеяние, применение ядохимикатов, выжигание тростника, беспокойство со стороны охотников и рыболовов, браконьерство. В местах гнездования пеликанов следует организовать заказники, а в дельте р. Кубани необходимо организовать заповедник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пеликан"/>
          <p:cNvPicPr/>
          <p:nvPr/>
        </p:nvPicPr>
        <p:blipFill>
          <a:blip r:embed="rId1"/>
          <a:srcRect l="1122" t="4416" r="7950" b="5932"/>
          <a:stretch/>
        </p:blipFill>
        <p:spPr>
          <a:xfrm>
            <a:off x="4834080" y="1773360"/>
            <a:ext cx="37972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Дрофа</a:t>
            </a:r>
            <a:br>
              <a:rPr sz="4400"/>
            </a:b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Отряд Журавлеобразные  Семейство Дрофиные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Вид находится под угрозой исчезновения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Крупная птица, масса до 11 – 12 кг. Оперение самца охристо – рыжее с поперечными чёрными полосами. Голова и пучки перьев – усы по бокам головы – пепельные. Самка меньше самца, у неё отсутствуют усы. Перелётная птица. Гнездится на открытых участках. В кладке 2 – 3 яйца. Насиживание около месяца. Воспитанием потомства занимаются самки. Самцы держатся отдельно, собравшись в небольшие табуны. Легко переносит низкую температуру, может доставать корм даже из – под снега, пока он не глубок. В суровые зимы улетает на южный берег Чёрного моря. Питается мелкими грызунам, ящерицами, насекомыми и их личинками, плодами, семенами, почками и другими съедобными частями травянистых и кустарниковых растений. В последнее время гнездится на посевах злаков, но из – за ранних сельскохозяйственных работ не успевает вывести потомство и воспитать птенцов.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В Краснодарском крае – в районах Азово – Кубанской низменности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Заметно сокращается. По ориентировочным данным, в крае ежегодно регистрируется не более 400 птиц, гнёзда и выводки встречаются крайне редко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спашка земель, механизация и химизация сельского хозяйства, раннее сенокошение, частая обработка полей, вытаптывание гнёзд скотом,браконьерство с применением автотранспорта. Целесообразно в местах гнездования организовать заказники и степной заповедник, ограничить применение ядохимикатов и удобрений, ужесточить борьбу с браконьерством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дрофа"/>
          <p:cNvPicPr/>
          <p:nvPr/>
        </p:nvPicPr>
        <p:blipFill>
          <a:blip r:embed="rId1"/>
          <a:srcRect l="8140" t="6749" r="5782" b="15888"/>
          <a:stretch/>
        </p:blipFill>
        <p:spPr>
          <a:xfrm>
            <a:off x="4915080" y="1773360"/>
            <a:ext cx="3779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Кавказский тетерев</a:t>
            </a:r>
            <a:br>
              <a:rPr sz="4400"/>
            </a:b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Отряд Курообразные Семейство Тетеревиные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Редкий вид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хож на обыкновенного тетерева, но мельче, самец чёрной окраски с загнутыми вниз концами  рулевых перьев. Самка бурая с чёрными поперечными полосами. Осёдлый вид. Гнёзда на земле. В кладке 5 – 6 яиц, которые самка насиживает в течение 25 дней. Питается растительной пищей: шишкоягодами можжевельника, почками берёзы, ягодами брусники, черники , водяники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В Краснодарском крае населяет всю высокогорную его часть. Типичные местообитания – верхняя граница леса, субальпийские кустарники, высокогорные луг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а охраняемых территориях (Кавказский государственный биосферный заповедник) плотность населения довольно значительна: 10 – 24 особи на 1 км </a:t>
            </a:r>
            <a:r>
              <a:rPr b="0" lang="ru-RU" sz="1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В специально не охраняемых районах вид встречается редко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своение высокогорных лугов под пастбища, незаконный отстрел, отстрел для музейных экспонатов. Заморозки и выпадение снега в весеннее время приводят к гибели кладок птенцов. Вид охраняется в кавказском государственном биосферном заповеднике. Необходимо присоединение к его территории Фишт – Оштенского горного массива, создание Лагонакского национального парка, обследование состояние численности вида в Туапсинском районе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тетерев"/>
          <p:cNvPicPr/>
          <p:nvPr/>
        </p:nvPicPr>
        <p:blipFill>
          <a:blip r:embed="rId1"/>
          <a:srcRect l="12200" t="13684" r="14025" b="12481"/>
          <a:stretch/>
        </p:blipFill>
        <p:spPr>
          <a:xfrm>
            <a:off x="5483160" y="1700280"/>
            <a:ext cx="31194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Comic Sans MS"/>
              </a:rPr>
              <a:t>Растения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ёрный аист</a:t>
            </a:r>
            <a:br>
              <a:rPr sz="4400"/>
            </a:b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Отряд Аистообразные Семейство Аистовые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Исчезающий вид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рупная, до 3 кг, птица, чёрного цвета, с белым брюхом, красным клювом и лапками.Перелётный вид. Гнёзда на скалах или на деревьях. Откладка яиц с начала апреля до середины мая. В кладке от 2 до 6 яиц (в среднем 4), длительностиь насиживания 32 – 38 дней. Питается земноводными, рыбами, водными беспозвоночными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В Краснодарском крае – в равнинных и низкогорных лесах с пологими склонами, высокими скальными обрывами юго – восточной части, по долинам рек. В период миграций останавливает у различных водоёмов: озёр, лиманов, в равнинной части края у побережий Азовского и Чёрного морей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 крае гнездится не менее 8 пар, общая численность не установлена. На пролёте встречается поодиночке, парами, группами по 3 особи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ырубка лесов. Необходимо выявление мест гнездования и объявление каждого участка памятником природы, расширение площади заказника «Белая скала» на р. Уруп до х. Ильич и объявление памятником природы скальных обрывов между станцией Ахметовской и пос. Подскальным, где расположены гнёзда чёрных аисто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5" descr="чёрный аист"/>
          <p:cNvPicPr/>
          <p:nvPr/>
        </p:nvPicPr>
        <p:blipFill>
          <a:blip r:embed="rId1"/>
          <a:srcRect l="14219" t="8202" r="15851" b="17963"/>
          <a:stretch/>
        </p:blipFill>
        <p:spPr>
          <a:xfrm>
            <a:off x="5508720" y="1700280"/>
            <a:ext cx="31176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Comic Sans MS"/>
              </a:rPr>
              <a:t>Насекомые</a:t>
            </a:r>
            <a:endParaRPr b="0" lang="en-US" sz="8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6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Дыбка степная</a:t>
            </a:r>
            <a:br>
              <a:rPr sz="4400"/>
            </a:br>
            <a:r>
              <a:rPr b="1" lang="ru-RU" sz="2300" spc="-1" strike="noStrike">
                <a:solidFill>
                  <a:srgbClr val="0000ff"/>
                </a:solidFill>
                <a:latin typeface="Times New Roman"/>
              </a:rPr>
              <a:t>Отряд Прямокрылые Семейство Кузнечики настоящие</a:t>
            </a:r>
            <a:endParaRPr b="0" lang="en-US" sz="23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ид, состояние которого вызывает тревог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й крупный кузнечик нашей фауны, длина тела самки до 53 – 75 мм. Тело удлинённое, желтое или жёлтовато – зелёное. Лоб сильно скошен вниз. По бокам брюшка проходят две светлые полосы. Задние ноги тонкие. Питаются крупными кузнечиками, богомолами и некоторыми саранчов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Краснодарском крае отмечен в Анапском районе. Предпочитает сухие, хорошо прогреваемые солнцем холмы и склоны, поросшие густой и высокой травянистой растительностью и редким кустарн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х н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ение инсектицидов и гербицидов, нерегулируемый выпас скота. Необходимо выявить местообитания, в которых вид сохранился, численность и определить условия, способствующие сохранению и увеличению численности ви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дыбка"/>
          <p:cNvPicPr/>
          <p:nvPr/>
        </p:nvPicPr>
        <p:blipFill>
          <a:blip r:embed="rId1"/>
          <a:srcRect l="18157" t="6749" r="5139" b="12320"/>
          <a:stretch/>
        </p:blipFill>
        <p:spPr>
          <a:xfrm>
            <a:off x="4716360" y="1989000"/>
            <a:ext cx="3888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колия - гигант</a:t>
            </a:r>
            <a:br>
              <a:rPr sz="4400"/>
            </a:b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Отряд Перепончатокрылые Семейство Скол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ид находится под угрозой уничт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й крупное насекомое отряда. Самки достигают длины 45 мм, самцы – 32 мм. Всё тело и конечности чёрные, второй и третий сегменты брюшка сверху имеют по паре больших жёлтых пятен. Крылья дымчато – тёмно – жёлтые с металлическим блеском. Голова у самки сверху и сзади жёлтая, у самцов – вся чёрная. Взрослые особи питаются нектаром и пыльцой. Личинки развиваются в теле личинок жцков – носорогов или жука – оленя. Большую часть жизни проводит в почве в поисках личинок жуков, в которые откладывает яйца. Развивается в одном поколении. Личинки зимуют в почв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Краснодарском крае отмечен – повсеместно. Для поколения предпочитает лесные поляны, опушки, склоны бал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7" descr="сколия - гигант"/>
          <p:cNvPicPr/>
          <p:nvPr/>
        </p:nvPicPr>
        <p:blipFill>
          <a:blip r:embed="rId1"/>
          <a:srcRect l="3653" t="0" r="4709" b="8840"/>
          <a:stretch/>
        </p:blipFill>
        <p:spPr>
          <a:xfrm>
            <a:off x="4788000" y="2101680"/>
            <a:ext cx="388764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Шмель глинистый</a:t>
            </a:r>
            <a:br>
              <a:rPr sz="4200"/>
            </a:br>
            <a:r>
              <a:rPr b="1" lang="ru-RU" sz="2500" spc="-1" strike="noStrike">
                <a:solidFill>
                  <a:srgbClr val="0000ff"/>
                </a:solidFill>
                <a:latin typeface="Times New Roman"/>
              </a:rPr>
              <a:t>Отряд Перепончатокрылые Семейство Пчелиные</a:t>
            </a:r>
            <a:endParaRPr b="0" lang="en-US" sz="25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504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ид находится под угрозой исчезнов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брюшке и спинке чередование светлых и тёмных перевязей. Живёт группами по 50 – 100 особей в гнезде. Весной и летом выводятся только рабочие особи, а в конце лета - только самцы и самки. Гнёзда устраивают в почв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Краснодарском крае - в Темрюкском и Анапском район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Единичные экземпляры обнаружены в Темрюкском и Анапском район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Освоение новых земель под виноградники, и другие сельскохозяйственные культуры, сенокошение, выпас скота. Необходимо выявить местообитание вида, обеспечить сохранение растений по краям оврагов, балок, на опушках лесопол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5" descr="шмель глинистый"/>
          <p:cNvPicPr/>
          <p:nvPr/>
        </p:nvPicPr>
        <p:blipFill>
          <a:blip r:embed="rId1"/>
          <a:srcRect l="5704" t="2234" r="7029" b="12257"/>
          <a:stretch/>
        </p:blipFill>
        <p:spPr>
          <a:xfrm>
            <a:off x="4427640" y="1773360"/>
            <a:ext cx="41781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Медведица Гера</a:t>
            </a:r>
            <a:br>
              <a:rPr sz="36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тряд Чешуекрылые Семейство Медведицы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Статус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Вид находится на грани исчезнове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Размах крыльев 54 –60 мм. Грудь чёрная с кремовыми продольными полосами , брюшко красное с рядом чёрных точек. Передние крылья чёрные с металлически – зелёным отливом, с тремя косыми кремовыми полосами и кремовым задним краем крыла. Задние крылья красные с тремя чёрными пятнами по внешнему краю и посередине. Бабочка летает с конца июля – в августе, питается на цветках. Откладка яиц и питание гусениц происходит на кипрее, крапиве, яснотке, жимолости, малине и ежевике. Зимуют в стадии гусеницы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В Краснодарском крае встречается всюду, кроме высокогорий. Обитает на опушках  и полянах лиственных и смешанных лесов, лесополосах, в зарослях кустарников и на разнотравных склонах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Заметно сокращаетс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Раскорчёвка кустарниковых зарослей, распашка, промышленное строительство, массовый выпас скота, применение пестицидов, отлов бабочек. Охраняется в Кавказском государственном биосферном заповеднике. Необходимо строго регламентировать применение пестицидов, запретить выпас скота, полностью запретить отлов бабочек, пропагандировать охрану вид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5" descr="медведица гера"/>
          <p:cNvPicPr/>
          <p:nvPr/>
        </p:nvPicPr>
        <p:blipFill>
          <a:blip r:embed="rId1"/>
          <a:srcRect l="10833" t="6275" r="8923" b="0"/>
          <a:stretch/>
        </p:blipFill>
        <p:spPr>
          <a:xfrm>
            <a:off x="4788000" y="2205000"/>
            <a:ext cx="38163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Медведица - госпожа</a:t>
            </a:r>
            <a:br>
              <a:rPr sz="36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тряд Чешуекрылые Семейство Медведицы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Статус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Вид находится под угрозой исчезнове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Размах крыльев 50 – 56 мм. Передние крылья чёрные с металлически – зелёным отливом, покрыты белыми и жёлтыми пятнами неправильной формы. Задние крылья ярко – красные с перевязью из чёрных пятен по внешнему краю и чёрным пятном посередине. Летает в июне – июле, питается на цветках. Откладка яиц и питание гусениц происходит на глухой двудомной крапиве, лютиках, незабудках, жимолости. Зимуют гусеницы в почве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В Краснодарском крае – предгорный пояс до 600 м над уровнем моря. Обитает на опушках  и полянах лиственных и смешанных лесов, в долинах лесных речек и ручьёв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Заметно сокращаетс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Лесоразработки, массовый выпас скота, строительство промышленных и других сооружений, применение пестицидов. Охраняется в Кавказском государственном биосферном заповеднике. Необходимо запретить применение пестицидов в лесах, бессистемный выпас скота, внести в список особо охраняемых объекто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медведица ггоспожа"/>
          <p:cNvPicPr/>
          <p:nvPr/>
        </p:nvPicPr>
        <p:blipFill>
          <a:blip r:embed="rId1"/>
          <a:srcRect l="8002" t="4331" r="12240" b="17028"/>
          <a:stretch/>
        </p:blipFill>
        <p:spPr>
          <a:xfrm>
            <a:off x="4859280" y="2492280"/>
            <a:ext cx="381816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Лента орденская голубая</a:t>
            </a:r>
            <a:br>
              <a:rPr sz="44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тряд Чешуекрылые Семейство Совк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Статус</a:t>
            </a:r>
            <a:r>
              <a:rPr b="0" lang="ru-RU" sz="1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Вид находится на грани исчезновения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Размах крыльев 80 – 92 мм. Передние крылья светло – серые с голубоватым оттенком со множеством волнистых поперечных линий и полос. Задние крылья чёрные с широкой голубой перевязью и белой бахромкой по краям. Антенны нитевидные, тело светло – серое, густоопушённое. Летают бабочки с середины июля до конца октября. Яйца откладывают одно или несколько штук в трещины коры на ветвях деревьев.Плодовитость до 860 яиц.Гусеницы живут и питаются в мае – июне на тополе, ясене, берёзе, буке, дубе, ольхе. Зимуют гусеницы в стадии яйц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В Краснодарском крае встречается в степной и предгорной зонах до высоты 500 м над уровнем моря. Обитает на опушках, просеках, полянах лиственных и смешанных лесов, в долинах лесных речек и ручьёв, в степной части отмечается изредко в лесополосах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За последние годы произошло заметное сокращение численности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Лесоразработки, массовый выпас скота, строительство промышленных и других сооружений, применение пестицидов. Необходимо регламентировать лесоразработки, запретить применение ядохимикатов в лесах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5" descr="лента голубая"/>
          <p:cNvPicPr/>
          <p:nvPr/>
        </p:nvPicPr>
        <p:blipFill>
          <a:blip r:embed="rId1"/>
          <a:srcRect l="7653" t="6177" r="13570" b="12257"/>
          <a:stretch/>
        </p:blipFill>
        <p:spPr>
          <a:xfrm>
            <a:off x="4788000" y="2373480"/>
            <a:ext cx="38163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Махаон</a:t>
            </a:r>
            <a:br>
              <a:rPr sz="44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тряд Чешуекрылые Семейство Парусник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Статус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Вид недостаточно изучен, численность и состояние его вызывают тревогу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Размах крыльев до 90 мм, фон их ярко – жёлтый. На переднем крае передних крыльев три чёрных пятна с жёлтым налётом. Внешняя кайма на обоих крыльях чёрная с краевыми жёлтыми лунками. По внешней кайме задних крыльев синие пятна, а у заднего угла красное пятно с синим отблеском. Характерным признаком вида является  вытянутый хвостик на внешнем крае задних крыльев. Летают бабочки в мае - августе. Личинки развиваются на растениях Сельдерейных, Астровых, Яснотковых. В год даёт два поколения. Зимует куколка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В Краснодарском крае встречается в предгорных районах. Предпочитает разнотравные степи, хорошо прогреваемые места в лесной, лесостепной зонах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По Краснодарскому краю данных изменения численности нет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27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Применение инсектицидов, гербицидов,нерегулируемый выпас скота, распашка лугов, опушек, отлов бабочек. Необходимо запретить отлов бабочек на всей территории, строго регламентировать применение гербицидов, запретить распашку и выпас скота в местах обитания махаона. Уделить особое внимание пропаганде охраны этого вида в крае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" descr="махаон"/>
          <p:cNvPicPr/>
          <p:nvPr/>
        </p:nvPicPr>
        <p:blipFill>
          <a:blip r:embed="rId1"/>
          <a:srcRect l="0" t="6749" r="12240" b="5343"/>
          <a:stretch/>
        </p:blipFill>
        <p:spPr>
          <a:xfrm>
            <a:off x="4859280" y="2060640"/>
            <a:ext cx="38689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ff"/>
                </a:solidFill>
                <a:latin typeface="Comic Sans MS"/>
              </a:rPr>
              <a:t>Рыбы</a:t>
            </a:r>
            <a:endParaRPr b="0" lang="en-US" sz="8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Безвременник яркий</a:t>
            </a:r>
            <a:br>
              <a:rPr sz="44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емейство Безвременниковы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504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дкий ви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равянистый многолетник. Стебель голый, с четырьмя бледно – зелёными листьями . Луковица яйцевидная, около 3 см в диаметре, чёрно – бурая, тусклая. Цветки крупные, бледно – лиловые. Цветёт в сентябре – октябре. Размножается семенами, которые разносятся муравьями. Декоративное, 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</a:rPr>
              <a:t>ядовито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Краснодарском крае в степных и предгорных районах. Обитает преимущественно на лугах и степях, по сухим каменистым склон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стоянно сокращ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спашка степей, выкопка растений садоводами – любителями, выпас скота, хозяйственное освоение территорий. Необходимы полный запрет сбора частными лицами, Контроль за состоянием популяции, организация микрозаказников в местах произрастания ви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безвременник"/>
          <p:cNvPicPr/>
          <p:nvPr/>
        </p:nvPicPr>
        <p:blipFill>
          <a:blip r:embed="rId1"/>
          <a:srcRect l="1070" t="0" r="70481" b="59264"/>
          <a:stretch/>
        </p:blipFill>
        <p:spPr>
          <a:xfrm>
            <a:off x="5580000" y="1413000"/>
            <a:ext cx="21668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терлядь</a:t>
            </a:r>
            <a:br>
              <a:rPr sz="4400"/>
            </a:br>
            <a:r>
              <a:rPr b="1" lang="ru-RU" sz="2500" spc="-1" strike="noStrike">
                <a:solidFill>
                  <a:srgbClr val="0000ff"/>
                </a:solidFill>
                <a:latin typeface="Times New Roman"/>
              </a:rPr>
              <a:t>Отряд Осетрообразные Семейство Осетровые</a:t>
            </a:r>
            <a:endParaRPr b="0" lang="en-US" sz="25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27352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счезающий ви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чная рыба. Боковых жучек у стерляди более 50, нижняя губа прервана посередине. Самая мелкая рыба из осетровых. К 10 годам вырастает до 75 см и массы 1700 г. На зиму залегает в ямы, весной поднимается вверх по реке к месту икрометания. Нерест в апреле – мае на галечном грунте при температуре воды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и выше. Плодовитость колеблется от 38 до 108 тыс. икринок. Питается личинками комаров, мелкими рыб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а Кубань очень ред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ительное время не встречается, возможно исчез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зуч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" descr="стерлядь"/>
          <p:cNvPicPr/>
          <p:nvPr/>
        </p:nvPicPr>
        <p:blipFill>
          <a:blip r:embed="rId1"/>
          <a:srcRect l="3313" t="6398" r="6743" b="30438"/>
          <a:stretch/>
        </p:blipFill>
        <p:spPr>
          <a:xfrm>
            <a:off x="3635280" y="2816280"/>
            <a:ext cx="51134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сётр атлантический</a:t>
            </a:r>
            <a:br>
              <a:rPr sz="4400"/>
            </a:br>
            <a:r>
              <a:rPr b="1" lang="ru-RU" sz="2500" spc="-1" strike="noStrike">
                <a:solidFill>
                  <a:srgbClr val="0000ff"/>
                </a:solidFill>
                <a:latin typeface="Times New Roman"/>
              </a:rPr>
              <a:t>Отряд Осетрообразные Семейство Осетровые</a:t>
            </a:r>
            <a:endParaRPr b="0" lang="en-US" sz="25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280" y="1371600"/>
            <a:ext cx="331164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счезающий ви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ина до 3,5 м, масса до 300 кг. Большую часть жизни проводит в морской воде. На нерест заходит в реки, поднимаясь от устья на 120 – 130 км. Икрометание при температуре воды от 8 до 22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. Клейкую икру откладывает на каменисто – галечный грунт в местах с быстрым течением. Плодовитость от 200 тыс до 6,7 мл икринок. Инкубация от 3 до 13 суток. Личинки на активное питание переходят при длине 16 – 18 мм. К осени молодь скатывается в море. Взрослые особи питаются мелкой рыбой, ракообразными. Миграции совершают небольшими группами или в одиноч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стоящее время единичные особи отмечены у побережья Краснодарского края. Предпочитает шельфовую зо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номорское стадо атлантического осётра насчитывает не более 300 особей. Сведений об увеличении численности н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еря нерестилищ вследствие зарегулирования стока рек гидротехническими сооружениями, загрязнение морей и рек, прилов осётра при промысле хамсы. Необходимо разработать и внедрить искусственное раз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5" descr="осётр"/>
          <p:cNvPicPr/>
          <p:nvPr/>
        </p:nvPicPr>
        <p:blipFill>
          <a:blip r:embed="rId1"/>
          <a:srcRect l="5229" t="15241" r="6081" b="32371"/>
          <a:stretch/>
        </p:blipFill>
        <p:spPr>
          <a:xfrm>
            <a:off x="3995640" y="2852640"/>
            <a:ext cx="482292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ечной угорь</a:t>
            </a:r>
            <a:br>
              <a:rPr sz="4400"/>
            </a:br>
            <a:r>
              <a:rPr b="1" lang="ru-RU" sz="2500" spc="-1" strike="noStrike">
                <a:solidFill>
                  <a:srgbClr val="0000ff"/>
                </a:solidFill>
                <a:latin typeface="Times New Roman"/>
              </a:rPr>
              <a:t>Отряд Осетрообразные Семейство Речные угри</a:t>
            </a:r>
            <a:endParaRPr b="0" lang="en-US" sz="25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27133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Статус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Редкий ви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Тело змеевидно удлиннённое, сжатое с боков в хвостовой части, покрыто мелкой чешуёй. Длина 50 - 100 см, масса до 6 кг. Размножается в Саргасовом море на глубине более 1000 м. В возрасте 3 лет входит в реку, где живёт 5 – 8 лет. Питаются мелкой рыбой, лягушками, ракообразными, моллюсками. Миграции совершают небольшими группами или в одиночк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ёрное и Азовское мор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тречается единичными экземпляра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 изучены. Необходим запрет на вылов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угорь"/>
          <p:cNvPicPr/>
          <p:nvPr/>
        </p:nvPicPr>
        <p:blipFill>
          <a:blip r:embed="rId1"/>
          <a:srcRect l="12927" t="7308" r="0" b="18011"/>
          <a:stretch/>
        </p:blipFill>
        <p:spPr>
          <a:xfrm>
            <a:off x="4067280" y="2809800"/>
            <a:ext cx="468144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Шафран Шарояна</a:t>
            </a:r>
            <a:br>
              <a:rPr sz="44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емейство Касатиковы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733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Численность ещё относительно высока, но сокращается катастрофически быстр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евысокое, от 5 до 10 см, многолетнее травянистое растение с ежегодно сменяющейся клубнелуковицей. Клубень шаровидный, маленький, покрыт тонкой оболочкой. Листья узколинейные тёмно – зелёного цвета. Околоцветник ярко– оранжевый, иногда жёлтый. Цветёт в сентябре – октябре. Плод – многосемянная коробочка. Плодоносит в октябре – ноябре. Размножается семенами и вегетативно. Декоративно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речается на альпийских лугах Лагонакского нагорья, в Кавказском государственном биосферном заповедн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ается, встречается довольно ред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чезает в связи с перегрузкой высокогорных пастбищ. Обрывается на букеты. Необходима полная охра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безвременник"/>
          <p:cNvPicPr/>
          <p:nvPr/>
        </p:nvPicPr>
        <p:blipFill>
          <a:blip r:embed="rId1"/>
          <a:srcRect l="0" t="39004" r="47716" b="11998"/>
          <a:stretch/>
        </p:blipFill>
        <p:spPr>
          <a:xfrm>
            <a:off x="4890960" y="1484280"/>
            <a:ext cx="32162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Белоцветник летний 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емейство Амариллисовы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дкий ви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равянистый многолетник. Стебель безлистный, 30 – 50 см высоты, ребристый, слегка сплюснутый. Листья до 1 см ширины. Соцветия из 3 – 6 поникающих цветков. Цветки до 2 см длины, белые с зелёным пятном на кончике. Цветёт в апреле – начал мая. Плод коробочка. Плодоносит в мае. Размножается семенами и вегетативно. Декоративное, лекарственно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нкий мыс в Геленджике, Горячий Ключ, Цемесская долина, Черноморское побережье, долина р. Кубань. Растёт на влажных и болотистых лугах, среди зарослей кустар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ается, особенно на Черноморском побережь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готовка луковиц как лекарственного сырья. Сокращение местообитаний в связи с курортным строительством, сбором растений на букеты. Необходимо создание микрозаказников в местах произрастания вида. Интродуцирован в ботаническом саду Кубанского госуниверсит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безвременник"/>
          <p:cNvPicPr/>
          <p:nvPr/>
        </p:nvPicPr>
        <p:blipFill>
          <a:blip r:embed="rId1"/>
          <a:srcRect l="52293" t="2237" r="0" b="13775"/>
          <a:stretch/>
        </p:blipFill>
        <p:spPr>
          <a:xfrm>
            <a:off x="6084720" y="1557360"/>
            <a:ext cx="1711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острел луговой</a:t>
            </a:r>
            <a:br>
              <a:rPr sz="44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емейство Лютиковы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Численность ещё относительно высока, но сокращается катастрофически быстр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летнее травянистое растение с мощным вертикальным корневищем. Стебли высотой 7 – 45 см. Прикорневые листья появляются одновременно с цветками. Листья мохнато – волосистые. Цветки крупные, поникающие, состоят из 6 лепестков бледно – лилового цвета. Плод – орешек. Цветёт в мае – апреле. Плодоносит в мае. Размножается семенами. 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</a:rPr>
              <a:t>Ядовито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крестностях Кропоткина, где последнее десятилетие не найден. Растёт в сухих сосновых лесах по берегам рек, в степях, на сухих песчаных склон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ы в крае неизвест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воение земель, сбор цветов на букеты. Необходимо запретить сбор растений, установить контроль за состоянием популяций, организовать заказник, рекомендовать выращивание в ботанических сад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прострел"/>
          <p:cNvPicPr/>
          <p:nvPr/>
        </p:nvPicPr>
        <p:blipFill>
          <a:blip r:embed="rId1"/>
          <a:srcRect l="0" t="0" r="57368" b="33025"/>
          <a:stretch/>
        </p:blipFill>
        <p:spPr>
          <a:xfrm>
            <a:off x="5651640" y="1341360"/>
            <a:ext cx="20034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одснежник Воронова</a:t>
            </a:r>
            <a:br>
              <a:rPr sz="44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емейство Амарилисовы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дкий ви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летнее луковичное растение до 30 см высоты. Луковица до 3 см в диаметре. Стебель ребристый. Листья узкие, утолщённые. Цветки белые с зелёным серцевидным пятном наверху. Цветёт в феврале. В апреле созревают семена. Размножается семенами. Лекарственное, декоративно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Краснодарском крае – от Туапсе до Сочи. Растёт в широколиственных лесах, зарослях кустарников, на опушках от нижнего до среднего горного поя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речается единич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зяйственное освоение территории. Заготовка луковиц как лекарственного сырья. Необходимо запретить сбор цветов в целях продажи.Вести заготовку лекарственного сырья только по специальным лицензиям и в небольшом объё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прострел"/>
          <p:cNvPicPr/>
          <p:nvPr/>
        </p:nvPicPr>
        <p:blipFill>
          <a:blip r:embed="rId1"/>
          <a:srcRect l="52293" t="5746" r="3230" b="27778"/>
          <a:stretch/>
        </p:blipFill>
        <p:spPr>
          <a:xfrm>
            <a:off x="5940360" y="1557360"/>
            <a:ext cx="2016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одснежник кавказский</a:t>
            </a:r>
            <a:br>
              <a:rPr sz="44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емейство Амарилисовы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дкий ви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вянистый многолетник до 20 см высоты. Луковица диаметром до 1,5 см. Листьев 2, покрытые восковым налётом.  Стебель несёт один поникающий цветок до 25 мм длины, из 6 белых листочков. Цветёт в феврале - апреле. Плод – коробочка. Плодоносит в мае. Размножается семенами. Декоративное, медонос, 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</a:rPr>
              <a:t>ядовито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Краснодарском крае – в нижнем и среднем горных поясах. Растёт в лиственных лесах, зарослях кустарников, на опушках. Встречается в субальпийском пояс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тно сокращ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ор растений на букеты, нерегулируемый выпас скота. Необходимо охранять, изучать состояние популяций, создать микрозаказники в лесничествах. Выращивается в ботаническом саду Кубанского госуниверсит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подснежник кавказский"/>
          <p:cNvPicPr/>
          <p:nvPr/>
        </p:nvPicPr>
        <p:blipFill>
          <a:blip r:embed="rId1"/>
          <a:srcRect l="49399" t="501" r="0" b="10263"/>
          <a:stretch/>
        </p:blipFill>
        <p:spPr>
          <a:xfrm>
            <a:off x="6012000" y="1484280"/>
            <a:ext cx="1782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Мак восточный</a:t>
            </a:r>
            <a:br>
              <a:rPr sz="44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емейство Маковы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татус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дкий ви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Краткое опис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летнее травянистое растение до 90 см высоты. Стебель прямостоячий. Листья крупные. Цветки одиночные, крупные, до 25 см в диаметре. Цветёт в июне. Плод – коробочка. Плодоносит в июле - августе. Размножается семенами. Декоративно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пространение и среда обита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Краснодарском крае – в верховьях р. Малой Лабы. Растёт на лугах в верхнем горном пояс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Численность и тенденция её изменени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речается очень ред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имитирующие факторы и меры охраны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зяйственное освоение высокогорий, нерегулируемый выпас скота, сбор растений населением. Необходимо уточнить местонахождение, установить контроль за состоянием популя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мак восточный"/>
          <p:cNvPicPr/>
          <p:nvPr/>
        </p:nvPicPr>
        <p:blipFill>
          <a:blip r:embed="rId1"/>
          <a:srcRect l="0" t="0" r="47679" b="52278"/>
          <a:stretch/>
        </p:blipFill>
        <p:spPr>
          <a:xfrm>
            <a:off x="5435640" y="1557360"/>
            <a:ext cx="30639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3:23:17Z</dcterms:created>
  <dc:creator>Татьяна</dc:creator>
  <dc:description/>
  <dc:language>en-US</dc:language>
  <cp:lastModifiedBy>Детонатор</cp:lastModifiedBy>
  <dcterms:modified xsi:type="dcterms:W3CDTF">2023-12-15T12:24:04Z</dcterms:modified>
  <cp:revision>34</cp:revision>
  <dc:subject/>
  <dc:title>Красная книга Краснодарского края</dc:title>
</cp:coreProperties>
</file>